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6878-9565-4F43-9738-3FBC90366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D2A3-0BF8-4027-8FDF-2B1E556DD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5B63-9379-4CC8-B42A-D1C49392A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A5B4-6E6A-486E-8C7D-F7EBB2C67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8BAC-91BD-4DB7-82A3-5AAFCEA54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1EFE-7208-475C-BBF4-A1B83BEFC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55C7-77A3-47D5-B6AE-7CC0FD8C9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2901-EB47-45E8-B150-718AA6251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AD8D-4EE9-404F-8F61-34DC68EAD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5A90-0481-4BB9-BD93-00C0A00B9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0AC2-1220-445B-80EB-B6B4BA31B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DD6B-B9D1-4FBD-98D7-035CDDACE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7C7BADF-5726-4CE7-9598-757EF72CF73C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Démarrage des échange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4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516 établissements ont démarré les tests avec les caisse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44 établissements ont fini les test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17 établissements ont fait le PV de phase 3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21 établissements ont fini la phase 4 et donc démarré en réel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F860-A53C-469C-AA2B-555B3323E1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7280" y="1224000"/>
            <a:ext cx="9793440" cy="1123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lanning de bascule retour SMTP des retours NOEM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01880" y="1965240"/>
          <a:ext cx="7991280" cy="4488120"/>
        </p:xfrm>
        <a:graphic>
          <a:graphicData uri="http://schemas.openxmlformats.org/drawingml/2006/table">
            <a:tbl>
              <a:tblPr/>
              <a:tblGrid>
                <a:gridCol w="1649160"/>
                <a:gridCol w="3703680"/>
                <a:gridCol w="263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ouloirs (CNAM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Numéros des départements concern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Date de basc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1-07-26-42-69-74-38-03-63-43-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8/05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ES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7-91-93-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R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5-78-92-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-12-31-32-46-65-81-82-24-33-40-47-64-11-30-34-48-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Guadeloupe-Martinique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éunion-Mayotte-Guy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AC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A-2B-04 05-06-13-83-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6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P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2-29-35-56-44 49-53-72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3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78FF-F4B0-41FD-9351-39418E35C6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lus de 37 millions de factures reçue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55 établissements émet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’ensemble des CTI a reçu des flux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Action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oursuivre envoi des stocks 2005, 2006, 2007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Envoi des flux 2008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23E5-C96A-4C80-ADBA-C10F8150A0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16680" y="1482840"/>
          <a:ext cx="4460760" cy="4953960"/>
        </p:xfrm>
        <a:graphic>
          <a:graphicData uri="http://schemas.openxmlformats.org/drawingml/2006/table">
            <a:tbl>
              <a:tblPr/>
              <a:tblGrid>
                <a:gridCol w="4460760"/>
              </a:tblGrid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SPECIALITE EXEC. /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ATIBILITE ASU-NAT / REG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CONNUE BDO NON TRANS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DENTIFICATION PRESTATION OBLIG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ABSENT DE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NON TROUVEE EN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NATURE DE PRESTATION ERRON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NON GERE PAR LA CAI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BENEFICIAIRE INCONNU DANS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NAT. PREST. SPE.EXECU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3280" y="1512720"/>
          <a:ext cx="4459320" cy="2646360"/>
        </p:xfrm>
        <a:graphic>
          <a:graphicData uri="http://schemas.openxmlformats.org/drawingml/2006/table">
            <a:tbl>
              <a:tblPr/>
              <a:tblGrid>
                <a:gridCol w="4459320"/>
              </a:tblGrid>
              <a:tr h="265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Les principaux motifs de rejets dans l’ordre décroissan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chantillon 309 établissement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11 millions de factu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D929-7EB3-492B-AF27-01A2DE6012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9:09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