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DFFE-997C-487A-B345-02AB75C07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2F91-ECC9-48D7-B038-3D91B15EF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C98D-1906-421A-A5A8-7BA91E9BC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1021-F4E7-46E7-9FF8-B62C0945C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8F69-BF9A-484D-B5B0-BD0E05811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0F5E-6534-4A09-8982-86CD70FD3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5414-1565-4059-8D76-55577D848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F556-A023-415C-A466-2DF0631A6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14E5-314A-4201-9A99-8FF8D7DC9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30E4-52E0-4282-8CBD-A2A30C47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04B2-5D62-4944-BB64-95E6AF3D3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72D9-4779-48F3-8176-5B6DE2781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4DCFE5C-2240-4437-90D4-9ABEFD46AF44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(1/2)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297080"/>
            <a:ext cx="96490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Rappel : les version 5.x des API de Lecture Vitale apportent les évolutions fonctionnelles suivantes :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Lecture des données v1 ter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fr-FR" sz="2200" spc="-1" strike="noStrike" u="sng">
                <a:solidFill>
                  <a:srgbClr val="0066ff"/>
                </a:solidFill>
                <a:uFillTx/>
                <a:latin typeface="Comic Sans MS"/>
              </a:rPr>
              <a:t>Réintroduction des dates de droits de base AMO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Existence d’un Médecin traitant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Modification de la gestion des dates de fin d'exonération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Remontée du numéro de série de la carte vitale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Prise en compte des vignettes bleues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55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Seul le libellé d'exonération du bénéficiaire est remonté </a:t>
            </a:r>
            <a:br>
              <a:rPr sz="2200"/>
            </a:br>
            <a:r>
              <a:rPr b="0" i="1" lang="fr-FR" sz="1900" spc="-1" strike="noStrike">
                <a:solidFill>
                  <a:srgbClr val="0066ff"/>
                </a:solidFill>
                <a:latin typeface="Comic Sans MS"/>
              </a:rPr>
              <a:t>(retrait du code libellé ETM ou du code couverture)</a:t>
            </a: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66ff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a version 5 est une version majeure </a:t>
            </a:r>
            <a:br>
              <a:rPr sz="2200"/>
            </a:b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62160" indent="-36216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es versions 4.x sont obsolètes au 31 mai 2008  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1" marL="785520" indent="-3016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Comic Sans MS"/>
              </a:rPr>
              <a:t>Le GIE SESAM-Vitale ne fournira plus de support technique sur ces versions au 30 juin 2008 </a:t>
            </a:r>
            <a:endParaRPr b="0" lang="en-US" sz="2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224F-5FD9-4983-B580-B4E8804223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907272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800" spc="-1" strike="noStrike">
                <a:solidFill>
                  <a:srgbClr val="0066ff"/>
                </a:solidFill>
                <a:latin typeface="Comic Sans MS"/>
              </a:rPr>
              <a:t>Lecture des cartes Vitale </a:t>
            </a:r>
            <a:r>
              <a:rPr b="0" lang="fr-FR" sz="4400" spc="-1" strike="noStrike">
                <a:solidFill>
                  <a:srgbClr val="0066ff"/>
                </a:solidFill>
                <a:latin typeface="Comic Sans MS"/>
              </a:rPr>
              <a:t>(2/2)</a:t>
            </a: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584000"/>
            <a:ext cx="1000908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version 5.00 a été diffusée le 27/04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La dernière version (v5.02) est disponible depuis le 26/11/2007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Intégration des API v5.x par les éditeurs </a:t>
            </a:r>
            <a:br>
              <a:rPr sz="2800"/>
            </a:br>
            <a:r>
              <a:rPr b="0" i="1" lang="fr-FR" sz="2400" spc="-1" strike="noStrike">
                <a:solidFill>
                  <a:srgbClr val="000099"/>
                </a:solidFill>
                <a:latin typeface="Comic Sans MS"/>
              </a:rPr>
              <a:t>(situation au 2/6/2008)</a:t>
            </a: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2 éditeurs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6 produits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13 éditeurs ont téléchargé la version 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2 éditeurs ont effectué les tests CNDA en v5.01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3 éditeurs ont effectué les tests CNDA en v5.02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1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F7D4-1394-46E9-A2F0-03564071F7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MEDIA CENTER</cp:lastModifiedBy>
  <dcterms:modified xsi:type="dcterms:W3CDTF">2008-06-10T19:36:56Z</dcterms:modified>
  <cp:revision>394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