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5E1-0133-401A-BB9A-5D8D4A63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D48-326D-460F-A7F4-7814C3C9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529-AF9C-47BF-AAF0-3A83E1C0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FB6-65E9-4647-A96B-36DAE59F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6D1-F835-41CC-980B-50EBDCA5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317-4004-4C58-B25C-FC52AB43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E50-13DC-4EE6-9613-8DF0F951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109-7559-49FF-A7F9-3C3866D5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C36-BCF2-4A70-BED3-9C974BE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B36-53A0-40BD-8A35-37794315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C2A-76D2-4BB9-8E2F-7A59ED7C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BB2-0D0C-4B85-BB7A-602C110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4920"/>
            <a:ext cx="396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248160"/>
            <a:ext cx="4572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A18B-5D00-4AD1-8357-A284FBCF2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96080" y="5943600"/>
          <a:ext cx="114300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943600"/>
                    <a:ext cx="1143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éunion avec les éditeurs de logiciels de facturation des établissements ex-DG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HO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1 juin 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elle OUSSAR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OS, bureau des systèmes d’information hospital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alendrier de bascule des coulo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0680"/>
            <a:ext cx="82296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606600" y="1600200"/>
          <a:ext cx="868392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6600" y="1600200"/>
                    <a:ext cx="86839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E8D-F9CA-4C61-BE77-5F71B04861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appels et règles de bonne pr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 des é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GMSIH/DHOS/CNAMTS/MSA/DGF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les établissements : vigilance à toutes les étapes du circu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fication d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plissage des fiches contac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ation de ces retou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aux de bord de suivi des flux envoyés avec les partenai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ation des organis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équences pour les édite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égration des retours dans la chaîne de factu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uration d’un contrôle bloquant sur l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DGF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419640" y="5445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5445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357-A440-401C-9603-CF8541FFD7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sur la cer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119-BBA9-4A5F-9B6C-057C577AE9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age des médicaments rétrocéd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CNAM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aboration d’un « mode opératoire » avec l’assurance maladie pour la mise en œuvre par les établisse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égration dans le Guide de facturation disponible sur le site de la DHOS, dans la suite du guide d’ad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ôles assurance maladie : date d’application à fix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88000" y="1773360"/>
          <a:ext cx="914400" cy="771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7FB-6E9E-41E2-9A5C-9CB16A7453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e à jour des certificats de chiffr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GIP CPS/DC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5A3-99C6-4FA7-902E-BD333FED6B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’avancement du projet consultation des droits (CD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de lecture des cartes Vitale (V4 et V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F23-2F88-4E8A-9695-58B0EC7EC5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P CPS/MI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SI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8920" y="4221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21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2E4-DE09-44BE-BA07-983A289C0C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uration individuelle direc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 d’une expérimentation en 2009 en attente d’arbit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tiers préal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é des données relatives aux droits des patients : API de lecture des cartes Sésame Vitale, bornes Vitale de mise à jour, consultation des droits en li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uto-diagno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ableaux de bord CNAMTS - MS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mélioration des prat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ier MEAH recouvrement : généralisation 40 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nalyse des rejets, juin 200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dmission, DHOS, février 2008, puis guide de factur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et 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personnels concerné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informations dans 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prise en charg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433-47A5-4944-B529-2704AF1DD6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diver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re du jo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sur la mise en place de l’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t des lieux, mai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és de simpl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age UCD médica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au point sur la cert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 certificats de chiff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Vit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uration directe et chantiers préal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945-1E2A-4DEC-974B-0FEA47DBD6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1)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 de l’enquête DHOS mai 2008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on de la mise en place d’une infrastructure d’échanges sécurisée et de l’envoi des flux 1 e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ont une infrastructure d’échanges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 % des CH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e 55 % en janvier 2008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16 % sont en B2 2005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sont 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un tiers d’entre eux attendent les conditions de validation de la phase 4 pour s ’y eng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t en phase 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’ont pas encore débuté les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EC7-9B0D-4ED9-9FF5-FBE01DE03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2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ux 1 eu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ont constitué leurs stocks 1 euro, do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de 60 % au moins une ann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80 % pour les 3 années (2005-2006-200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ayant transmis leurs stocks ont reçu une confirmation de la caisse pivot, mais n’ont pas de retour sur leur trai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rejets sont quantifiés : taux de rejet moyen 38 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à pondérer avec le taux de réponse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sont ni identifiés ni analys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es lieux de la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FF3-A868-40E8-9FE1-56E0756169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600" y="990720"/>
            <a:ext cx="8643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isement des critères « capacité de remontée des stocks 1€ » et « norme de télétransmission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2 établissements ont répondu à l’une ou l’autre des questions (95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2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 d’avancement : cartographie des établis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38360" y="5146560"/>
            <a:ext cx="1338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 = ri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663840" y="436608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t des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90800" y="270828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élé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3120" y="398304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62440" y="2935440"/>
            <a:ext cx="13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1600" y="2927520"/>
            <a:ext cx="14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17800" y="3276720"/>
            <a:ext cx="1440" cy="273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7800" y="3276720"/>
            <a:ext cx="20520" cy="27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784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784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788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788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38320" y="32767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38320" y="46339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38320" y="46339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38320" y="5991120"/>
            <a:ext cx="568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38320" y="5991120"/>
            <a:ext cx="56800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276640"/>
            <a:ext cx="1661760" cy="515880"/>
          </a:xfrm>
          <a:prstGeom prst="wedgeRectCallout">
            <a:avLst>
              <a:gd name="adj1" fmla="val -50763"/>
              <a:gd name="adj2" fmla="val 216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avanc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240" y="6151680"/>
            <a:ext cx="1662120" cy="515880"/>
          </a:xfrm>
          <a:prstGeom prst="wedgeRectCallout">
            <a:avLst>
              <a:gd name="adj1" fmla="val 41689"/>
              <a:gd name="adj2" fmla="val -124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en ret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2600" y="3797280"/>
            <a:ext cx="23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9 ES, soit 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07040" y="37972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2 ES, soit 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2360" y="516096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 ES, soit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28840" y="4902120"/>
            <a:ext cx="2352600" cy="8323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 ES, soit 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63880" y="6129360"/>
            <a:ext cx="469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19C-DE4B-43B1-AB68-91F021AE19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1324080" y="921960"/>
            <a:ext cx="6946920" cy="454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86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de progression de la mise en place de la télé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480" y="981000"/>
            <a:ext cx="181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État d’avancement des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35040" y="5632560"/>
            <a:ext cx="139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cune ou antérieure à 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296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1640" y="5632560"/>
            <a:ext cx="10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24080" y="546876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336320" y="1669680"/>
            <a:ext cx="12600" cy="37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94000" y="4343400"/>
            <a:ext cx="1442880" cy="906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0400" y="2708280"/>
            <a:ext cx="144324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6400" y="4330800"/>
            <a:ext cx="1442880" cy="906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3480" y="3170160"/>
            <a:ext cx="144288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7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2708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9120" y="1413000"/>
            <a:ext cx="144324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6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2852640"/>
            <a:ext cx="144288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1557360"/>
            <a:ext cx="1442880" cy="90648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6960" y="907920"/>
            <a:ext cx="1662120" cy="516240"/>
          </a:xfrm>
          <a:prstGeom prst="wedgeRectCallout">
            <a:avLst>
              <a:gd name="adj1" fmla="val -13421"/>
              <a:gd name="adj2" fmla="val -47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itionnement 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1484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679920"/>
            <a:ext cx="2035440" cy="181584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386200">
            <a:off x="2161800" y="1831680"/>
            <a:ext cx="3273480" cy="411156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46040" y="3262320"/>
            <a:ext cx="230400" cy="2491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56040" y="4158720"/>
            <a:ext cx="271440" cy="2509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65400" y="5214960"/>
            <a:ext cx="300240" cy="209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2760" y="2178000"/>
            <a:ext cx="314280" cy="222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89560" y="2707920"/>
            <a:ext cx="298440" cy="230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38720" y="4119480"/>
            <a:ext cx="341280" cy="279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8240" y="177336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240" y="295416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8240" y="4398840"/>
            <a:ext cx="13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s non débu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05360"/>
            <a:ext cx="1584360" cy="501840"/>
          </a:xfrm>
          <a:prstGeom prst="wedgeRectCallout">
            <a:avLst>
              <a:gd name="adj1" fmla="val 40180"/>
              <a:gd name="adj2" fmla="val -13322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en position de vigi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6021360"/>
            <a:ext cx="150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iveau de sécurisation de la télé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B5A-3BCD-484F-AE95-490266121D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72200" y="1685520"/>
            <a:ext cx="27273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 éditeurs équipent 70 % des établissements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F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MIPI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 KESS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CP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HEALTH SERVI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posent une solution certifiée et sécurisé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utres éditeurs en B2 2005 sécurisée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NER équipe 10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E SAS : 6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I.S : 5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52280"/>
            <a:ext cx="816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létransmission : état des lieux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oom sur les édi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523880"/>
          <a:ext cx="579132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791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DF0-A706-4A6E-A7FE-37ECF157C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 entre les partenaires : DHOS/CNAMTS/MSA/DGF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 de la phase 3 : nombre limité de tests effectués sur les factures envoyées par les établissements à leur caisse pivot (envoi d’un fichier d’une journée ordinaire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établissement reste toutefois libre d’accroître le nombre de fichiers à tes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ègement applicable depuis juin 2007 aux établissements déjà télé transmetteurs, étendu aux établissements non télé transmetteurs, à une triple condition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tests doivent porter sur 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imètre d’activité de l’établiss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échelonnement possible des tests sur plusieurs journées de traitement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 de rejet doivent être analys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a caisse pivot, pour procéder aux ajustements induit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ensemble des partenaires concernés doit être inform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 ces tests et de la gestion des reje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63B-8490-4259-9EA3-7A856F3AD6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d’échang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é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c chaq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sse pivo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un des établissements dont elle est piv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 pour tous les établissemen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mplir les fiches cont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adresse mail pour le SN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ifier la bonne récupération des retours NOEM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 ’assurer de l ’exploitation de ces retou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 phase 4 élaboré et signé par le comptable public après vérification de la correcte transmission des fichiers NOEMIE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paiement (réf. 57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rejet (réf. 908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ion nationale et locale d’une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à tous les partena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er aux autres établissements et comptables dépendant de cette caisse pivot que les échanges en réel peuvent déb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BEB-B92F-4629-B8F8-F63394EF64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08:39:58Z</dcterms:created>
  <dc:creator>philippe</dc:creator>
  <dc:description/>
  <dc:language>en-US</dc:language>
  <cp:lastModifiedBy>OUSSAR Estelle</cp:lastModifiedBy>
  <cp:lastPrinted>2007-11-06T12:46:12Z</cp:lastPrinted>
  <dcterms:modified xsi:type="dcterms:W3CDTF">2008-06-17T11:16:47Z</dcterms:modified>
  <cp:revision>268</cp:revision>
  <dc:subject/>
  <dc:title>Séminaire Oracle</dc:title>
</cp:coreProperties>
</file>